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0BF-E985-46C7-B4B5-BEAA677D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C26-B6E3-413C-8D8D-6B4B43E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7E5-518C-4E96-A738-A5F4D34F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449-9AB4-49AF-B61C-5C1F17B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299-2B0E-47E5-88B5-9B73AF8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778-02C2-4E3C-A0E2-622B8E4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A5D-CB02-407E-ABAD-3A8A07F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98D-F1D2-4BBF-98AC-6438532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155-F014-4AE9-ADDB-511018B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973-2482-4470-A687-9D446E2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3D2-4BF3-4691-B51B-4962D4B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A05-F487-41FA-BFA3-5820B9B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1FA-54FC-46B5-BA34-33CEF3BF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ba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r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in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br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you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ankfu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rin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squ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1. playgroun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wav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3. transferr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anth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dumpl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mo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be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9. handshak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fung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trong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1-30T12:00:05Z</dcterms:modified>
  <cp:revision>7</cp:revision>
  <dc:subject/>
  <dc:title>The Art Lesson Group A</dc:title>
</cp:coreProperties>
</file>